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14.png" ContentType="image/png"/>
  <Override PartName="/ppt/media/image6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7.pct" ContentType="image/x-pict"/>
  <Override PartName="/ppt/media/image11.png" ContentType="image/png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630-8455-4E0F-8332-AE37F43B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1E8-1DD4-46E0-9567-23E2F5A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65F-1C87-40A3-96D3-8A250A0E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DA1-638D-4480-B3B3-A16FCB16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72F-4D99-4596-A2D6-713FC242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EB60-0124-44B7-BE9F-C16A980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4BB5-76A1-4396-8464-0F519590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0BAD-C9D3-4753-90A8-A2CD549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8326-729E-4629-91AC-76F5033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472-7B1D-44B7-BAE6-9B7A114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FD9-5BB2-486C-BA24-FBBC425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020-EC53-407A-8088-9E128E78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2E4-01E6-4732-B6D0-FF71426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CDFB-A688-483A-816A-44F8D9F3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DCC-9714-4D29-876E-86590E5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BACF-F1A0-4BDE-A499-A51935BA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CBA7-2FBD-44E2-B809-D08C7616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AE5-B252-40E0-B15F-17E5BA8F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2ED-C149-4756-8BA5-B5445D3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E0F-9ACE-4B4C-9090-58DDEE4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8BC-A76E-4988-9056-930DE60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F83-FCD1-46BC-8DBC-5B4BF95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103-1B3C-49E1-B052-565CFE9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8D9-68A4-4D18-98FA-716B2C3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2DA2-877B-44BD-ADB8-9123F40271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EEC-D8B6-4557-8B44-938B2FC07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1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oordination and Agreement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bully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54320" y="137304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7400" y="1649520"/>
            <a:ext cx="3111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lection of coordinator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failure of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en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n and closed grou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74720" y="1893960"/>
            <a:ext cx="8605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liable multicas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93680" y="1533600"/>
            <a:ext cx="7605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hold-back queue for arriving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6120" y="1509840"/>
            <a:ext cx="61628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, FIFO and causal ordering of multicast messag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9880" y="1347840"/>
            <a:ext cx="5302440" cy="5013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1960" y="1830240"/>
            <a:ext cx="273384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ce the consistent ordering of totally order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FIFO-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he causally related mess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and the otherwise arbitrary delivery ordering of messa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splay from bulletin board progra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25760" y="313524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040" y="313524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7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5760" y="5425920"/>
            <a:ext cx="190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6040" y="5425920"/>
            <a:ext cx="208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42280" y="5425920"/>
            <a:ext cx="2052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27280" y="2298600"/>
            <a:ext cx="6815160" cy="3127320"/>
            <a:chOff x="1727280" y="2298600"/>
            <a:chExt cx="6815160" cy="3127320"/>
          </a:xfrm>
        </p:grpSpPr>
        <p:sp>
          <p:nvSpPr>
            <p:cNvPr id="165" name=""/>
            <p:cNvSpPr/>
            <p:nvPr/>
          </p:nvSpPr>
          <p:spPr>
            <a:xfrm>
              <a:off x="3819240" y="2408400"/>
              <a:ext cx="122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ulletin boar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99400" y="2387520"/>
              <a:ext cx="119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 </a:t>
              </a:r>
              <a:r>
                <a:rPr b="0" i="1" lang="en-GB" sz="1500" spc="-1" strike="noStrike">
                  <a:solidFill>
                    <a:srgbClr val="000000"/>
                  </a:solidFill>
                  <a:latin typeface="New York"/>
                </a:rPr>
                <a:t>os.interes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7280" y="22986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47800" y="2298600"/>
              <a:ext cx="6575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2280" y="22986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7280" y="2317680"/>
              <a:ext cx="1440" cy="3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2280" y="2317680"/>
              <a:ext cx="1800" cy="3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3880" y="2854440"/>
              <a:ext cx="37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840" y="284472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20120" y="2844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7280" y="26575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47800" y="2657520"/>
              <a:ext cx="757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44840" y="2657520"/>
              <a:ext cx="2290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040" y="26575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76920" y="2657520"/>
              <a:ext cx="3446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2280" y="26575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7280" y="2676600"/>
              <a:ext cx="144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5760" y="2676600"/>
              <a:ext cx="144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56040" y="2676600"/>
              <a:ext cx="1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2280" y="2676600"/>
              <a:ext cx="1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91720" y="3303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53840" y="330372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.Han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22640" y="33037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77320" y="3303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7800" y="3303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27280" y="31147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7800" y="3114720"/>
              <a:ext cx="757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25760" y="31147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44840" y="3114720"/>
              <a:ext cx="2290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56040" y="31147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3114720"/>
              <a:ext cx="3446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2280" y="3114720"/>
              <a:ext cx="1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7280" y="313524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25760" y="3135240"/>
              <a:ext cx="190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56040" y="3135240"/>
              <a:ext cx="208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42280" y="3135240"/>
              <a:ext cx="1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1720" y="3681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6320" y="368136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.Jose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7000" y="3681360"/>
              <a:ext cx="108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icroker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7280" y="3513240"/>
              <a:ext cx="14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5760" y="3513240"/>
              <a:ext cx="1908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56040" y="3513240"/>
              <a:ext cx="2088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42280" y="3513240"/>
              <a:ext cx="180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91720" y="4060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53840" y="4060800"/>
              <a:ext cx="79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.Han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87360" y="4060800"/>
              <a:ext cx="1415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: Microkern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7280" y="3892680"/>
              <a:ext cx="14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25760" y="3892680"/>
              <a:ext cx="190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3892680"/>
              <a:ext cx="20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42280" y="3892680"/>
              <a:ext cx="180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91720" y="4438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5280" y="4438800"/>
              <a:ext cx="106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.L’Heur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12560" y="4438800"/>
              <a:ext cx="1459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PC perform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7280" y="4270320"/>
              <a:ext cx="14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5760" y="4270320"/>
              <a:ext cx="1908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6040" y="4270320"/>
              <a:ext cx="2088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42280" y="4270320"/>
              <a:ext cx="1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91720" y="4818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88400" y="4818240"/>
              <a:ext cx="82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.Walk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25520" y="4818240"/>
              <a:ext cx="79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: M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27280" y="4649760"/>
              <a:ext cx="144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25760" y="4649760"/>
              <a:ext cx="190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6040" y="4649760"/>
              <a:ext cx="20880" cy="3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42280" y="4649760"/>
              <a:ext cx="180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56800" y="5170320"/>
              <a:ext cx="29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7280" y="5027760"/>
              <a:ext cx="14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7280" y="54054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7800" y="5405400"/>
              <a:ext cx="75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5760" y="5027760"/>
              <a:ext cx="190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5760" y="54054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44840" y="5405400"/>
              <a:ext cx="22906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56040" y="5027760"/>
              <a:ext cx="20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56040" y="5405400"/>
              <a:ext cx="1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6920" y="5405400"/>
              <a:ext cx="3446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42280" y="5027760"/>
              <a:ext cx="180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42280" y="54054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62800" y="5405400"/>
              <a:ext cx="17964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tal ordering using a sequenc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219400" y="1359000"/>
            <a:ext cx="56782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ISIS algorithm for total ordering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27720" y="3197160"/>
            <a:ext cx="620640" cy="647640"/>
          </a:xfrm>
          <a:prstGeom prst="ellipse">
            <a:avLst/>
          </a:prstGeom>
          <a:solidFill>
            <a:srgbClr val="ffdc99"/>
          </a:solidFill>
          <a:ln w="4284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99320" y="2166120"/>
            <a:ext cx="650160" cy="61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" y="11628"/>
                </a:moveTo>
                <a:arcTo wR="10800" hR="10800" stAng="10536107" swAng="2371669"/>
                <a:lnTo>
                  <a:pt x="10800" y="10800"/>
                </a:lnTo>
                <a:close/>
              </a:path>
              <a:path fill="none" w="21600" h="21600">
                <a:moveTo>
                  <a:pt x="32" y="11628"/>
                </a:moveTo>
                <a:arcTo wR="10800" hR="10800" stAng="10536107" swAng="2371669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24360" y="2341440"/>
            <a:ext cx="3215160" cy="241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6"/>
                </a:moveTo>
                <a:arcTo wR="10800" hR="10800" stAng="-10795487" swAng="6348687"/>
                <a:lnTo>
                  <a:pt x="10800" y="10800"/>
                </a:lnTo>
                <a:close/>
              </a:path>
              <a:path fill="none" w="21600" h="21600">
                <a:moveTo>
                  <a:pt x="0" y="10786"/>
                </a:moveTo>
                <a:arcTo wR="10800" hR="10800" stAng="-10795487" swAng="6348687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22920" y="3109320"/>
            <a:ext cx="618840" cy="61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74" y="3859"/>
                </a:moveTo>
                <a:arcTo wR="10800" hR="10800" stAng="-2399649" swAng="2399649"/>
                <a:lnTo>
                  <a:pt x="10800" y="10800"/>
                </a:lnTo>
                <a:close/>
              </a:path>
              <a:path fill="none" w="21600" h="21600">
                <a:moveTo>
                  <a:pt x="19074" y="3859"/>
                </a:moveTo>
                <a:arcTo wR="10800" hR="10800" stAng="-2399649" swAng="2399649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35480" y="2724480"/>
            <a:ext cx="619560" cy="65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241335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2413352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05160" y="2576880"/>
            <a:ext cx="30956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78" y="14116"/>
                </a:moveTo>
                <a:arcTo wR="10800" hR="10800" stAng="1072705" swAng="6555716"/>
                <a:lnTo>
                  <a:pt x="10800" y="10800"/>
                </a:lnTo>
                <a:close/>
              </a:path>
              <a:path fill="none" w="21600" h="21600">
                <a:moveTo>
                  <a:pt x="21078" y="14116"/>
                </a:moveTo>
                <a:arcTo wR="10800" hR="10800" stAng="1072705" swAng="6555716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5160" y="1486080"/>
            <a:ext cx="619200" cy="649080"/>
          </a:xfrm>
          <a:prstGeom prst="ellipse">
            <a:avLst/>
          </a:prstGeom>
          <a:solidFill>
            <a:srgbClr val="ffdc99"/>
          </a:solidFill>
          <a:ln w="4284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8920" y="1487160"/>
            <a:ext cx="621720" cy="65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24" y="7976"/>
                </a:moveTo>
                <a:arcTo wR="10800" hR="10800" stAng="-909614" swAng="2404048"/>
                <a:lnTo>
                  <a:pt x="10800" y="10800"/>
                </a:lnTo>
                <a:close/>
              </a:path>
              <a:path fill="none" w="21600" h="21600">
                <a:moveTo>
                  <a:pt x="21224" y="7976"/>
                </a:moveTo>
                <a:arcTo wR="10800" hR="10800" stAng="-909614" swAng="2404048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65320" y="1809360"/>
            <a:ext cx="3688920" cy="345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0" y="103"/>
                </a:moveTo>
                <a:arcTo wR="10800" hR="10800" stAng="-4924215" swAng="4924215"/>
                <a:lnTo>
                  <a:pt x="10800" y="10800"/>
                </a:lnTo>
                <a:close/>
              </a:path>
              <a:path fill="none" w="21600" h="21600">
                <a:moveTo>
                  <a:pt x="12290" y="103"/>
                </a:moveTo>
                <a:arcTo wR="10800" hR="10800" stAng="-4924215" swAng="4924215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4080" y="1781280"/>
            <a:ext cx="621000" cy="6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00" y="20153"/>
                </a:moveTo>
                <a:arcTo wR="10800" hR="10800" stAng="3599920" swAng="2385224"/>
                <a:lnTo>
                  <a:pt x="10800" y="10800"/>
                </a:lnTo>
                <a:close/>
              </a:path>
              <a:path fill="none" w="21600" h="21600">
                <a:moveTo>
                  <a:pt x="16200" y="20153"/>
                </a:moveTo>
                <a:arcTo wR="10800" hR="10800" stAng="3599920" swAng="2385224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30240" y="630360"/>
            <a:ext cx="4245840" cy="292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21600"/>
                </a:moveTo>
                <a:arcTo wR="10800" hR="10800" stAng="5402570" swAng="4796452"/>
                <a:lnTo>
                  <a:pt x="10800" y="10800"/>
                </a:lnTo>
                <a:close/>
              </a:path>
              <a:path fill="none" w="21600" h="21600">
                <a:moveTo>
                  <a:pt x="10792" y="21600"/>
                </a:moveTo>
                <a:arcTo wR="10800" hR="10800" stAng="5402570" swAng="4796452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33240" y="2932200"/>
            <a:ext cx="64836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0" y="7249"/>
                </a:moveTo>
                <a:arcTo wR="10800" hR="10800" stAng="-9648403" swAng="2386863"/>
                <a:lnTo>
                  <a:pt x="10800" y="10800"/>
                </a:lnTo>
                <a:close/>
              </a:path>
              <a:path fill="none" w="21600" h="21600">
                <a:moveTo>
                  <a:pt x="600" y="7249"/>
                </a:moveTo>
                <a:arcTo wR="10800" hR="10800" stAng="-9648403" swAng="2386863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28800" y="1809720"/>
            <a:ext cx="1563840" cy="1239840"/>
          </a:xfrm>
          <a:prstGeom prst="line">
            <a:avLst/>
          </a:prstGeom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39880" y="1722600"/>
            <a:ext cx="147600" cy="1476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6520" y="5349960"/>
            <a:ext cx="649080" cy="649080"/>
          </a:xfrm>
          <a:prstGeom prst="ellipse">
            <a:avLst/>
          </a:prstGeom>
          <a:solidFill>
            <a:srgbClr val="ffdc99"/>
          </a:solidFill>
          <a:ln w="4284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92640" y="3522960"/>
            <a:ext cx="619200" cy="64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52" y="21068"/>
                </a:moveTo>
                <a:arcTo wR="10800" hR="10800" stAng="6483440" swAng="2412701"/>
                <a:lnTo>
                  <a:pt x="10800" y="10800"/>
                </a:lnTo>
                <a:close/>
              </a:path>
              <a:path fill="none" w="21600" h="21600">
                <a:moveTo>
                  <a:pt x="7452" y="21068"/>
                </a:moveTo>
                <a:arcTo wR="10800" hR="10800" stAng="6483440" swAng="2412701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42080" y="5379840"/>
            <a:ext cx="650160" cy="64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8" y="5392"/>
                </a:moveTo>
                <a:arcTo wR="10800" hR="10800" stAng="-1803110" swAng="2403054"/>
                <a:lnTo>
                  <a:pt x="10800" y="10800"/>
                </a:lnTo>
                <a:close/>
              </a:path>
              <a:path fill="none" w="21600" h="21600">
                <a:moveTo>
                  <a:pt x="20148" y="5392"/>
                </a:moveTo>
                <a:arcTo wR="10800" hR="10800" stAng="-1803110" swAng="2403054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1280" y="1337760"/>
            <a:ext cx="2831400" cy="436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480638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4806389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9280" y="5084640"/>
            <a:ext cx="646920" cy="65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07" y="367"/>
                </a:moveTo>
                <a:arcTo wR="10800" hR="10800" stAng="-6299126" swAng="2379738"/>
                <a:lnTo>
                  <a:pt x="10800" y="10800"/>
                </a:lnTo>
                <a:close/>
              </a:path>
              <a:path fill="none" w="21600" h="21600">
                <a:moveTo>
                  <a:pt x="8007" y="367"/>
                </a:moveTo>
                <a:arcTo wR="10800" hR="10800" stAng="-6299126" swAng="2379738"/>
              </a:path>
            </a:pathLst>
          </a:custGeom>
          <a:solidFill>
            <a:srgbClr val="000000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14720" y="3521160"/>
            <a:ext cx="3418920" cy="377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" y="9482"/>
                </a:moveTo>
                <a:arcTo wR="10800" hR="10800" stAng="-10379538" swAng="4976345"/>
                <a:lnTo>
                  <a:pt x="10800" y="10800"/>
                </a:lnTo>
                <a:close/>
              </a:path>
              <a:path fill="none" w="21600" h="21600">
                <a:moveTo>
                  <a:pt x="81" y="9482"/>
                </a:moveTo>
                <a:arcTo wR="10800" hR="10800" stAng="-10379538" swAng="4976345"/>
              </a:path>
            </a:pathLst>
          </a:custGeom>
          <a:noFill/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64240" y="3462480"/>
            <a:ext cx="147600" cy="14760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61480" y="2617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11840" y="3668760"/>
            <a:ext cx="649080" cy="79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98920" y="5673600"/>
            <a:ext cx="353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5600" y="2576520"/>
            <a:ext cx="14760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5600" y="2576520"/>
            <a:ext cx="177840" cy="295200"/>
          </a:xfrm>
          <a:prstGeom prst="rect">
            <a:avLst/>
          </a:prstGeom>
          <a:noFill/>
          <a:ln w="42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58200" y="3003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23160" y="40370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9800" y="2590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10600" y="44496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282760"/>
            <a:ext cx="889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2282760"/>
            <a:ext cx="119160" cy="176400"/>
          </a:xfrm>
          <a:prstGeom prst="rect">
            <a:avLst/>
          </a:prstGeom>
          <a:noFill/>
          <a:ln w="42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1960" y="203508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Messag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0470800">
            <a:off x="5341320" y="2731680"/>
            <a:ext cx="163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Proposed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08520" y="3344760"/>
            <a:ext cx="354240" cy="2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08520" y="3344760"/>
            <a:ext cx="382680" cy="324000"/>
          </a:xfrm>
          <a:prstGeom prst="rect">
            <a:avLst/>
          </a:prstGeom>
          <a:noFill/>
          <a:ln w="42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3960" y="17352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29040" y="1844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96880" y="560088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41960" y="5708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6200" y="450864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31280" y="4616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56000" y="25909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01440" y="2698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08520" y="3579840"/>
            <a:ext cx="2350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08520" y="3579840"/>
            <a:ext cx="265320" cy="119160"/>
          </a:xfrm>
          <a:prstGeom prst="rect">
            <a:avLst/>
          </a:prstGeom>
          <a:noFill/>
          <a:ln w="42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64280" y="2370240"/>
            <a:ext cx="619200" cy="649080"/>
          </a:xfrm>
          <a:prstGeom prst="ellipse">
            <a:avLst/>
          </a:prstGeom>
          <a:solidFill>
            <a:srgbClr val="ffdc99"/>
          </a:solidFill>
          <a:ln w="4284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200400" y="4052520"/>
            <a:ext cx="1209600" cy="1592280"/>
          </a:xfrm>
          <a:prstGeom prst="line">
            <a:avLst/>
          </a:prstGeom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3040" y="5586480"/>
            <a:ext cx="176040" cy="17604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382720" y="2665440"/>
            <a:ext cx="1917720" cy="649440"/>
          </a:xfrm>
          <a:prstGeom prst="line">
            <a:avLst/>
          </a:prstGeom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00800" y="2606760"/>
            <a:ext cx="147600" cy="177840"/>
          </a:xfrm>
          <a:prstGeom prst="ellipse">
            <a:avLst/>
          </a:prstGeom>
          <a:solidFill>
            <a:srgbClr val="ffffff"/>
          </a:solidFill>
          <a:ln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37320" y="2665440"/>
            <a:ext cx="3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34800" y="37720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 Agreed Seq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5560" y="48625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52160" y="2266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usal ordering using vector timestamp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98560" y="1476360"/>
            <a:ext cx="77994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for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1760" y="1492200"/>
            <a:ext cx="53611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network parti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16120" y="1517760"/>
            <a:ext cx="62802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sensus in a synchronous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92080" y="1641600"/>
            <a:ext cx="82710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ree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52040" y="2205000"/>
            <a:ext cx="8588520" cy="2637720"/>
            <a:chOff x="752040" y="2205000"/>
            <a:chExt cx="8588520" cy="2637720"/>
          </a:xfrm>
        </p:grpSpPr>
        <p:sp>
          <p:nvSpPr>
            <p:cNvPr id="308" name=""/>
            <p:cNvSpPr/>
            <p:nvPr/>
          </p:nvSpPr>
          <p:spPr>
            <a:xfrm>
              <a:off x="75204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5120" y="23446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47240" y="22543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89920" y="367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49040" y="3816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34920" y="367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92600" y="3816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11280" y="2266920"/>
              <a:ext cx="847800" cy="8478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3600" y="3389400"/>
              <a:ext cx="847800" cy="8478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33760" y="3389400"/>
              <a:ext cx="847800" cy="8478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7560" y="3414600"/>
              <a:ext cx="9828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47" y="31"/>
                  </a:moveTo>
                  <a:lnTo>
                    <a:pt x="62" y="47"/>
                  </a:lnTo>
                  <a:lnTo>
                    <a:pt x="0" y="63"/>
                  </a:lnTo>
                  <a:lnTo>
                    <a:pt x="15" y="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062080" y="2965320"/>
              <a:ext cx="473040" cy="474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57520" y="34146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31"/>
                  </a:moveTo>
                  <a:lnTo>
                    <a:pt x="47" y="0"/>
                  </a:lnTo>
                  <a:lnTo>
                    <a:pt x="63" y="63"/>
                  </a:lnTo>
                  <a:lnTo>
                    <a:pt x="0" y="4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10040" y="2965320"/>
              <a:ext cx="473040" cy="474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08480" y="36385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1400" y="3689280"/>
              <a:ext cx="1297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6600" y="393876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236320" y="3987720"/>
              <a:ext cx="1297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12080" y="30765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10240" y="30765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75160" y="34513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56800" y="4049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89120" y="2205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50760" y="23446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2880" y="22543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46080" y="367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03760" y="3816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91080" y="36766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248400" y="3816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50160" y="2266920"/>
              <a:ext cx="847800" cy="8478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27680" y="3389400"/>
              <a:ext cx="847800" cy="8478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96400" y="3389400"/>
              <a:ext cx="849240" cy="8478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0200" y="341460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48" y="31"/>
                  </a:moveTo>
                  <a:lnTo>
                    <a:pt x="63" y="47"/>
                  </a:lnTo>
                  <a:lnTo>
                    <a:pt x="0" y="63"/>
                  </a:lnTo>
                  <a:lnTo>
                    <a:pt x="16" y="0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626160" y="2965320"/>
              <a:ext cx="473040" cy="474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96400" y="341460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32" y="31"/>
                  </a:moveTo>
                  <a:lnTo>
                    <a:pt x="48" y="0"/>
                  </a:lnTo>
                  <a:lnTo>
                    <a:pt x="79" y="63"/>
                  </a:lnTo>
                  <a:lnTo>
                    <a:pt x="0" y="47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72320" y="2965320"/>
              <a:ext cx="474840" cy="474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72560" y="36385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32"/>
                  </a:moveTo>
                  <a:lnTo>
                    <a:pt x="0" y="0"/>
                  </a:lnTo>
                  <a:lnTo>
                    <a:pt x="63" y="32"/>
                  </a:lnTo>
                  <a:lnTo>
                    <a:pt x="0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75480" y="3689280"/>
              <a:ext cx="12715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0680" y="393876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1"/>
                  </a:moveTo>
                  <a:lnTo>
                    <a:pt x="63" y="63"/>
                  </a:lnTo>
                  <a:lnTo>
                    <a:pt x="0" y="31"/>
                  </a:lnTo>
                  <a:lnTo>
                    <a:pt x="63" y="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800400" y="3987720"/>
              <a:ext cx="12956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68240" y="307656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69640" y="307656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32040" y="345132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18360" y="404964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81040" y="4599000"/>
              <a:ext cx="325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sha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2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our byzantine genera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52040" y="1785960"/>
            <a:ext cx="8438040" cy="3831480"/>
            <a:chOff x="752040" y="1785960"/>
            <a:chExt cx="8438040" cy="3831480"/>
          </a:xfrm>
        </p:grpSpPr>
        <p:sp>
          <p:nvSpPr>
            <p:cNvPr id="355" name=""/>
            <p:cNvSpPr/>
            <p:nvPr/>
          </p:nvSpPr>
          <p:spPr>
            <a:xfrm>
              <a:off x="75204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116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3068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1080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524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064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4508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05160" y="1785960"/>
              <a:ext cx="831600" cy="833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8000" y="2913120"/>
              <a:ext cx="831960" cy="833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06760" y="2913120"/>
              <a:ext cx="83340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87560" y="29368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7" y="16"/>
                  </a:moveTo>
                  <a:lnTo>
                    <a:pt x="62" y="47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62080" y="2496960"/>
              <a:ext cx="46512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30520" y="29368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16" y="16"/>
                  </a:moveTo>
                  <a:lnTo>
                    <a:pt x="47" y="0"/>
                  </a:lnTo>
                  <a:lnTo>
                    <a:pt x="62" y="62"/>
                  </a:lnTo>
                  <a:lnTo>
                    <a:pt x="0" y="47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0960" y="2496960"/>
              <a:ext cx="46512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84720" y="31575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31"/>
                  </a:moveTo>
                  <a:lnTo>
                    <a:pt x="0" y="0"/>
                  </a:lnTo>
                  <a:lnTo>
                    <a:pt x="61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09960" y="3206880"/>
              <a:ext cx="12747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5160" y="34513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233080" y="3500280"/>
              <a:ext cx="1273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8508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8440" y="25812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70160" y="297180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91160" y="3265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01200" y="5373720"/>
              <a:ext cx="325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ulty processes are shown sha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05160" y="4064040"/>
              <a:ext cx="831600" cy="833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1404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6848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71640" y="3965400"/>
              <a:ext cx="98640" cy="7488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31" y="0"/>
                  </a:moveTo>
                  <a:lnTo>
                    <a:pt x="62" y="0"/>
                  </a:lnTo>
                  <a:lnTo>
                    <a:pt x="31" y="47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20960" y="2546280"/>
              <a:ext cx="144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6092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910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29080" y="405144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236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30520" y="364824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46"/>
                  </a:moveTo>
                  <a:lnTo>
                    <a:pt x="0" y="15"/>
                  </a:lnTo>
                  <a:lnTo>
                    <a:pt x="62" y="0"/>
                  </a:lnTo>
                  <a:lnTo>
                    <a:pt x="47" y="62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90960" y="3720960"/>
              <a:ext cx="46512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87800" y="423540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236760" y="3697200"/>
              <a:ext cx="56376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50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7560" y="3648240"/>
              <a:ext cx="122400" cy="982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47" y="31"/>
                  </a:moveTo>
                  <a:lnTo>
                    <a:pt x="31" y="62"/>
                  </a:lnTo>
                  <a:lnTo>
                    <a:pt x="0" y="0"/>
                  </a:lnTo>
                  <a:lnTo>
                    <a:pt x="77" y="15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2062080" y="3720960"/>
              <a:ext cx="48888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55840" y="423540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41400" y="3697200"/>
              <a:ext cx="56376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04880" y="1846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2560" y="19861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82080" y="189540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ommand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6220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664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941680" y="3193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097920" y="3333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37480" y="1785960"/>
              <a:ext cx="833400" cy="83340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35520" y="2913120"/>
              <a:ext cx="833400" cy="833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64640" y="2913120"/>
              <a:ext cx="833400" cy="833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46880" y="29368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16"/>
                  </a:moveTo>
                  <a:lnTo>
                    <a:pt x="61" y="47"/>
                  </a:lnTo>
                  <a:lnTo>
                    <a:pt x="0" y="62"/>
                  </a:lnTo>
                  <a:lnTo>
                    <a:pt x="15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519960" y="2496960"/>
              <a:ext cx="46512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89840" y="293688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16"/>
                  </a:moveTo>
                  <a:lnTo>
                    <a:pt x="46" y="0"/>
                  </a:lnTo>
                  <a:lnTo>
                    <a:pt x="61" y="62"/>
                  </a:lnTo>
                  <a:lnTo>
                    <a:pt x="0" y="4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48480" y="2496960"/>
              <a:ext cx="465120" cy="4654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42240" y="315756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31"/>
                  </a:moveTo>
                  <a:lnTo>
                    <a:pt x="0" y="0"/>
                  </a:lnTo>
                  <a:lnTo>
                    <a:pt x="62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68920" y="3206880"/>
              <a:ext cx="1273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93040" y="345132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1"/>
                  </a:moveTo>
                  <a:lnTo>
                    <a:pt x="62" y="62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690960" y="3500280"/>
              <a:ext cx="12733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40440" y="258120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69200" y="2581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23360" y="2971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2200" y="326556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37480" y="4089240"/>
              <a:ext cx="833400" cy="8319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165440" y="5005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19880" y="514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5760" y="3965400"/>
              <a:ext cx="122040" cy="9864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31" y="0"/>
                  </a:moveTo>
                  <a:lnTo>
                    <a:pt x="77" y="0"/>
                  </a:lnTo>
                  <a:lnTo>
                    <a:pt x="31" y="62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54720" y="2546280"/>
              <a:ext cx="1800" cy="13953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2320" y="2778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388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74720" y="40514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1: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33760" y="4051440"/>
              <a:ext cx="48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1: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89840" y="3648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5" y="46"/>
                  </a:moveTo>
                  <a:lnTo>
                    <a:pt x="0" y="15"/>
                  </a:lnTo>
                  <a:lnTo>
                    <a:pt x="61" y="0"/>
                  </a:lnTo>
                  <a:lnTo>
                    <a:pt x="46" y="62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523280" y="3720960"/>
              <a:ext cx="49032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21560" y="423540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46" y="16"/>
                  </a:moveTo>
                  <a:lnTo>
                    <a:pt x="62" y="46"/>
                  </a:lnTo>
                  <a:lnTo>
                    <a:pt x="0" y="62"/>
                  </a:lnTo>
                  <a:lnTo>
                    <a:pt x="16" y="0"/>
                  </a:lnTo>
                  <a:lnTo>
                    <a:pt x="4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694280" y="3697200"/>
              <a:ext cx="53964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26440" y="37083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1: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46880" y="3648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6" y="31"/>
                  </a:moveTo>
                  <a:lnTo>
                    <a:pt x="15" y="62"/>
                  </a:lnTo>
                  <a:lnTo>
                    <a:pt x="0" y="0"/>
                  </a:lnTo>
                  <a:lnTo>
                    <a:pt x="61" y="15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6519960" y="3720960"/>
              <a:ext cx="488880" cy="4651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13720" y="423540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16"/>
                  </a:moveTo>
                  <a:lnTo>
                    <a:pt x="46" y="0"/>
                  </a:lnTo>
                  <a:lnTo>
                    <a:pt x="62" y="62"/>
                  </a:lnTo>
                  <a:lnTo>
                    <a:pt x="0" y="46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99280" y="3697200"/>
              <a:ext cx="538200" cy="563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er managing a mutual exclusion token for a set of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9920" y="1436760"/>
            <a:ext cx="70610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 of processes transferring a mutual exclusion toke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2200" y="1473120"/>
            <a:ext cx="52419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icart and Agrawala’s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4000" y="1379520"/>
            <a:ext cx="772452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n 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RELEAS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 enter the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WAN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all processes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request processing deferr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request’s timest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ait unti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number of replies received =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HEL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n receipt of a request &lt;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&gt; at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(i ≠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HELD or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WANTE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&lt;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ithout reply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ly immediately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 exit the crit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ply to any queued reques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70720" y="2136600"/>
            <a:ext cx="74520" cy="716040"/>
          </a:xfrm>
          <a:custGeom>
            <a:avLst/>
            <a:gdLst>
              <a:gd name="textAreaLeft" fmla="*/ 0 w 74520"/>
              <a:gd name="textAreaRight" fmla="*/ 27000 w 74520"/>
              <a:gd name="textAreaTop" fmla="*/ 18360 h 716040"/>
              <a:gd name="textAreaBottom" fmla="*/ 697680 h 71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synchroniz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50800" y="1438200"/>
            <a:ext cx="7256520" cy="4764240"/>
            <a:chOff x="1450800" y="1438200"/>
            <a:chExt cx="7256520" cy="4764240"/>
          </a:xfrm>
        </p:grpSpPr>
        <p:sp>
          <p:nvSpPr>
            <p:cNvPr id="98" name=""/>
            <p:cNvSpPr/>
            <p:nvPr/>
          </p:nvSpPr>
          <p:spPr>
            <a:xfrm flipH="1" flipV="1">
              <a:off x="3298680" y="3722400"/>
              <a:ext cx="1276560" cy="10414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81640" y="4764240"/>
              <a:ext cx="1008000" cy="1074600"/>
            </a:xfrm>
            <a:prstGeom prst="ellipse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50800" y="2109960"/>
              <a:ext cx="1746360" cy="1712880"/>
            </a:xfrm>
            <a:prstGeom prst="ellipse">
              <a:avLst/>
            </a:prstGeom>
            <a:solidFill>
              <a:srgbClr val="ffdc99"/>
            </a:solidFill>
            <a:ln w="49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52960" y="4489560"/>
              <a:ext cx="1746360" cy="1712880"/>
            </a:xfrm>
            <a:prstGeom prst="ellipse">
              <a:avLst/>
            </a:prstGeom>
            <a:solidFill>
              <a:srgbClr val="ffdc99"/>
            </a:solidFill>
            <a:ln w="49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59160" y="1808280"/>
              <a:ext cx="1008000" cy="1041120"/>
            </a:xfrm>
            <a:prstGeom prst="ellipse">
              <a:avLst/>
            </a:prstGeom>
            <a:noFill/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26400" y="1438200"/>
              <a:ext cx="1780920" cy="1779840"/>
            </a:xfrm>
            <a:prstGeom prst="ellipse">
              <a:avLst/>
            </a:prstGeom>
            <a:solidFill>
              <a:srgbClr val="ffdc99"/>
            </a:solidFill>
            <a:ln w="49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57840" y="2043000"/>
              <a:ext cx="268560" cy="133560"/>
            </a:xfrm>
            <a:custGeom>
              <a:avLst/>
              <a:gdLst/>
              <a:ahLst/>
              <a:rect l="l" t="t" r="r" b="b"/>
              <a:pathLst>
                <a:path w="169" h="84">
                  <a:moveTo>
                    <a:pt x="0" y="42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21" y="8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130560" y="2109600"/>
              <a:ext cx="3527280" cy="7729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3840" y="4830840"/>
              <a:ext cx="23472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21" y="42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2280" y="3689280"/>
              <a:ext cx="1444680" cy="11746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7080" y="3587760"/>
              <a:ext cx="23508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106" y="85"/>
                  </a:moveTo>
                  <a:lnTo>
                    <a:pt x="85" y="127"/>
                  </a:lnTo>
                  <a:lnTo>
                    <a:pt x="0" y="0"/>
                  </a:lnTo>
                  <a:lnTo>
                    <a:pt x="148" y="64"/>
                  </a:lnTo>
                  <a:lnTo>
                    <a:pt x="106" y="85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6320" y="2916360"/>
              <a:ext cx="201600" cy="2347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21" y="127"/>
                  </a:moveTo>
                  <a:lnTo>
                    <a:pt x="0" y="85"/>
                  </a:lnTo>
                  <a:lnTo>
                    <a:pt x="127" y="0"/>
                  </a:lnTo>
                  <a:lnTo>
                    <a:pt x="63" y="148"/>
                  </a:lnTo>
                  <a:lnTo>
                    <a:pt x="21" y="127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448240" y="3117960"/>
              <a:ext cx="1411200" cy="15112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88960" y="21700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89760" y="246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46600" y="3797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98680" y="2916360"/>
              <a:ext cx="235080" cy="13464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42"/>
                  </a:moveTo>
                  <a:lnTo>
                    <a:pt x="148" y="85"/>
                  </a:lnTo>
                  <a:lnTo>
                    <a:pt x="0" y="85"/>
                  </a:lnTo>
                  <a:lnTo>
                    <a:pt x="127" y="0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533760" y="2176560"/>
              <a:ext cx="3392640" cy="8064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49840" y="4494240"/>
              <a:ext cx="201600" cy="23508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106" y="22"/>
                  </a:moveTo>
                  <a:lnTo>
                    <a:pt x="127" y="64"/>
                  </a:lnTo>
                  <a:lnTo>
                    <a:pt x="0" y="148"/>
                  </a:lnTo>
                  <a:lnTo>
                    <a:pt x="64" y="0"/>
                  </a:lnTo>
                  <a:lnTo>
                    <a:pt x="106" y="22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818320" y="2949480"/>
              <a:ext cx="1411200" cy="15796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3640" y="4394160"/>
              <a:ext cx="234720" cy="201600"/>
            </a:xfrm>
            <a:custGeom>
              <a:avLst/>
              <a:gdLst/>
              <a:ahLst/>
              <a:rect l="l" t="t" r="r" b="b"/>
              <a:pathLst>
                <a:path w="148" h="127">
                  <a:moveTo>
                    <a:pt x="42" y="21"/>
                  </a:moveTo>
                  <a:lnTo>
                    <a:pt x="63" y="0"/>
                  </a:lnTo>
                  <a:lnTo>
                    <a:pt x="148" y="127"/>
                  </a:lnTo>
                  <a:lnTo>
                    <a:pt x="0" y="63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3960" y="3352680"/>
              <a:ext cx="1342800" cy="107496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2720" y="297648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19960" y="50497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1600" y="4465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63640" y="19558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70120" y="2292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5600" y="416736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50800" y="2109960"/>
              <a:ext cx="1746360" cy="1712880"/>
            </a:xfrm>
            <a:prstGeom prst="ellipse">
              <a:avLst/>
            </a:prstGeom>
            <a:solidFill>
              <a:srgbClr val="ffdc99"/>
            </a:solidFill>
            <a:ln w="493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51800" y="277344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4400" y="3071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2680" y="515952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75280" y="5456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67920" y="384984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52280" y="4017960"/>
              <a:ext cx="582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8120" y="5132520"/>
              <a:ext cx="101520" cy="16812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42" y="0"/>
                  </a:moveTo>
                  <a:lnTo>
                    <a:pt x="64" y="0"/>
                  </a:lnTo>
                  <a:lnTo>
                    <a:pt x="64" y="106"/>
                  </a:lnTo>
                  <a:lnTo>
                    <a:pt x="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321600" y="5032080"/>
              <a:ext cx="33120" cy="666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98760" y="2076480"/>
              <a:ext cx="101520" cy="20160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43" y="106"/>
                  </a:moveTo>
                  <a:lnTo>
                    <a:pt x="0" y="127"/>
                  </a:lnTo>
                  <a:lnTo>
                    <a:pt x="0" y="0"/>
                  </a:lnTo>
                  <a:lnTo>
                    <a:pt x="64" y="106"/>
                  </a:lnTo>
                  <a:lnTo>
                    <a:pt x="43" y="106"/>
                  </a:lnTo>
                  <a:close/>
                </a:path>
              </a:pathLst>
            </a:custGeom>
            <a:solidFill>
              <a:srgbClr val="000000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67160" y="2277720"/>
              <a:ext cx="1440" cy="6660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ekawa’s algorithm – part 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7480" y="1316160"/>
            <a:ext cx="509904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n 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FA_x0008_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o enter the crit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WAN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Wait unti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number of replies received =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HEL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f a request fro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(i ≠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HEL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= TR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e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ithout reply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51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40560" y="5830920"/>
            <a:ext cx="3695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s on 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ekawa’s algorithm – part 2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43120" y="1744560"/>
            <a:ext cx="55656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to exit the critical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RELEAS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cas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all processes i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n receip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of a release fro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at 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(i ≠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queue of requests is non-emp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move head of queue –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sa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t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: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5920"/>
                <a:tab algn="l" pos="75888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ing-based election in progres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4640" y="1355760"/>
            <a:ext cx="4356360" cy="3898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31400" y="5508720"/>
            <a:ext cx="575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he election was started by process 17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est process identifier encountered so far is 24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 processes are shown darke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08-25T12:00:14Z</dcterms:modified>
  <cp:revision>57</cp:revision>
  <dc:subject/>
  <dc:title>Figure 15.1 A distributed multimedia system</dc:title>
</cp:coreProperties>
</file>